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gif" ContentType="image/gif"/>
  <Override PartName="/ppt/media/image5.wmf" ContentType="image/x-wmf"/>
  <Override PartName="/ppt/media/image7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D65A-66FB-405E-8323-FE65DBBFE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F2EE-E139-46FA-9AA3-5510D39F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1F9A-964E-4329-A1B2-E625F60AF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DE5F-2C22-447D-BEED-D13E35CDE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45C6-ADAB-4C69-9463-88AA3190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CFC1-4FEF-4D5C-B70C-5789951B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93C4-66D5-4A17-8B79-9B6CB1CB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E50B-93BF-460A-973F-16CA301A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5A11-48FD-4080-B9FF-6215B2A7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00CA-5021-4735-9B7C-173BD3AB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D69E-6757-48C7-B78D-914AD7B4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E82C-55B9-4E46-ACBB-3C81834D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8678-5329-4E4E-B353-4DE4E1C263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-1684800"/>
            <a:ext cx="9901080" cy="854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900"/>
            </a:br>
            <a:br>
              <a:rPr sz="5900"/>
            </a:br>
            <a:r>
              <a:rPr b="1" i="1" lang="ru-RU" sz="6600" spc="-1" strike="noStrike">
                <a:solidFill>
                  <a:srgbClr val="000000"/>
                </a:solidFill>
                <a:latin typeface="Garamond"/>
              </a:rPr>
              <a:t>Курение-</a:t>
            </a:r>
            <a:br>
              <a:rPr sz="6600"/>
            </a:br>
            <a:r>
              <a:rPr b="1" i="1" lang="ru-RU" sz="6600" spc="-1" strike="noStrike">
                <a:solidFill>
                  <a:srgbClr val="000000"/>
                </a:solidFill>
                <a:latin typeface="Garamond"/>
              </a:rPr>
              <a:t>опасное увлечение</a:t>
            </a:r>
            <a:br>
              <a:rPr sz="6600"/>
            </a:br>
            <a:br>
              <a:rPr sz="5900"/>
            </a:br>
            <a:r>
              <a:rPr b="1" i="1" lang="ru-RU" sz="59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1" i="1" lang="ru-RU" sz="3500" spc="-1" strike="noStrike">
                <a:solidFill>
                  <a:srgbClr val="000000"/>
                </a:solidFill>
                <a:latin typeface="Garamond"/>
              </a:rPr>
              <a:t>«</a:t>
            </a:r>
            <a:r>
              <a:rPr b="1" i="1" lang="ru-RU" sz="3100" spc="-1" strike="noStrike">
                <a:solidFill>
                  <a:srgbClr val="000000"/>
                </a:solidFill>
                <a:latin typeface="Garamond"/>
              </a:rPr>
              <a:t>Табак приносит вред телу,</a:t>
            </a:r>
            <a:br>
              <a:rPr sz="3100"/>
            </a:br>
            <a:r>
              <a:rPr b="1" i="1" lang="ru-RU" sz="3100" spc="-1" strike="noStrike">
                <a:solidFill>
                  <a:srgbClr val="000000"/>
                </a:solidFill>
                <a:latin typeface="Garamond"/>
              </a:rPr>
              <a:t>        разрушает разум, </a:t>
            </a:r>
            <a:br>
              <a:rPr sz="3100"/>
            </a:br>
            <a:r>
              <a:rPr b="1" i="1" lang="ru-RU" sz="3100" spc="-1" strike="noStrike">
                <a:solidFill>
                  <a:srgbClr val="000000"/>
                </a:solidFill>
                <a:latin typeface="Garamond"/>
              </a:rPr>
              <a:t>                    отупляет целые нации»</a:t>
            </a:r>
            <a:br>
              <a:rPr sz="3100"/>
            </a:br>
            <a:br>
              <a:rPr sz="3100"/>
            </a:br>
            <a:r>
              <a:rPr b="1" i="1" lang="ru-RU" sz="3100" spc="-1" strike="noStrike">
                <a:solidFill>
                  <a:srgbClr val="000000"/>
                </a:solidFill>
                <a:latin typeface="Garamond"/>
              </a:rPr>
              <a:t>                                               О. Де Бальзак. </a:t>
            </a:r>
            <a:br>
              <a:rPr sz="5900"/>
            </a:b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PE03339_"/>
          <p:cNvPicPr/>
          <p:nvPr/>
        </p:nvPicPr>
        <p:blipFill>
          <a:blip r:embed="rId1"/>
          <a:stretch/>
        </p:blipFill>
        <p:spPr>
          <a:xfrm>
            <a:off x="58680" y="3429000"/>
            <a:ext cx="267012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10517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EARTLNG"/>
          <p:cNvPicPr/>
          <p:nvPr/>
        </p:nvPicPr>
        <p:blipFill>
          <a:blip r:embed="rId1"/>
          <a:stretch/>
        </p:blipFill>
        <p:spPr>
          <a:xfrm>
            <a:off x="1116000" y="0"/>
            <a:ext cx="614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4"/>
          <p:cNvSpPr txBox="1"/>
          <p:nvPr/>
        </p:nvSpPr>
        <p:spPr>
          <a:xfrm>
            <a:off x="2124000" y="189000"/>
            <a:ext cx="655344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21 ноябр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  <p:sp>
        <p:nvSpPr>
          <p:cNvPr id="61" name="WordArt 5"/>
          <p:cNvSpPr txBox="1"/>
          <p:nvPr/>
        </p:nvSpPr>
        <p:spPr>
          <a:xfrm>
            <a:off x="0" y="4797360"/>
            <a:ext cx="914400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День борьбы с курением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692360" y="0"/>
            <a:ext cx="460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2092320" y="0"/>
            <a:ext cx="457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Arial"/>
              </a:rPr>
              <a:t>Борьба с курением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Англия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вычитают деньги из зарплаты за врем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денное в курительной комна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Дан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запрещено курить в общественных мест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Сингапу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курение – 500 долларов штраф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 рекламы на табачные издел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Финляндия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врачи установили 1 день - 17 ноябр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курильщики приходят на работу без сигар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Япония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 Ваки – решение: 3 дня в месяц без кур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Фран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осле антитабачной кампании число курильщи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кратилось более, чем на 2 млн. челов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Итак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1044720" y="-387360"/>
            <a:ext cx="11233440" cy="72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-1004760" y="2248200"/>
            <a:ext cx="1107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й вред здоровью может принести сигаре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вредные вещества в сигар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омогают ли фильтры избежать вредных воздействи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Как вы поясните поговорку “Капля никотина убивает лошадь!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Как ведется борьба с курением в других странах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нас в стране? В школ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a800"/>
                </a:solidFill>
                <a:latin typeface="Arial"/>
              </a:rPr>
              <a:t>Мои аргументы против кур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рение разрушает орган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рение приводит к неизлечимым болезн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рение снижает физическую актив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рение портит цвет кож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котин забирает свободу, человек становится его раб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img1"/>
          <p:cNvPicPr/>
          <p:nvPr/>
        </p:nvPicPr>
        <p:blipFill>
          <a:blip r:embed="rId1"/>
          <a:stretch/>
        </p:blipFill>
        <p:spPr>
          <a:xfrm>
            <a:off x="179280" y="404640"/>
            <a:ext cx="8785440" cy="61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img1.jpg (20867 bytes)"/>
          <p:cNvPicPr/>
          <p:nvPr/>
        </p:nvPicPr>
        <p:blipFill>
          <a:blip r:embed="rId1"/>
          <a:stretch/>
        </p:blipFill>
        <p:spPr>
          <a:xfrm>
            <a:off x="971640" y="0"/>
            <a:ext cx="784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1042920" y="638172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79280" y="189000"/>
          <a:ext cx="8713800" cy="6416640"/>
        </p:xfrm>
        <a:graphic>
          <a:graphicData uri="http://schemas.openxmlformats.org/drawingml/2006/table">
            <a:tbl>
              <a:tblPr/>
              <a:tblGrid>
                <a:gridCol w="4392720"/>
                <a:gridCol w="1224000"/>
                <a:gridCol w="1257120"/>
                <a:gridCol w="1839960"/>
              </a:tblGrid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ке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сь клас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ьчик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во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Вы курите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Почему вы начали курить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друзья курили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родители кури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из любопыт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чтобы выглядеть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Большинство ваших друзей курит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Как вы оцениваете свою успеваемость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выше сре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сре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ниже сре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Пытались ли вы бросить курить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Считаете ли вы, что курение опасно для вашего здоровья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не задумывался над эти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Чаще всего я курю тогда, когда -------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Я делаю попытки бросить курить, но мне мешают такие обстоятельства------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Мои родители о моей привычк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не догадывают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огадывают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нуюсь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маю что это баловство,когда захочу, тогда и брош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нуюс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маю что это баловство,когда захочу, тогда и брош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img2.jpg (15310 bytes)"/>
          <p:cNvPicPr/>
          <p:nvPr/>
        </p:nvPicPr>
        <p:blipFill>
          <a:blip r:embed="rId1"/>
          <a:stretch/>
        </p:blipFill>
        <p:spPr>
          <a:xfrm>
            <a:off x="611280" y="0"/>
            <a:ext cx="806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зультаты анкет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11280" y="1844640"/>
          <a:ext cx="7786440" cy="4114800"/>
        </p:xfrm>
        <a:graphic>
          <a:graphicData uri="http://schemas.openxmlformats.org/drawingml/2006/table">
            <a:tbl>
              <a:tblPr/>
              <a:tblGrid>
                <a:gridCol w="3529080"/>
                <a:gridCol w="2014200"/>
                <a:gridCol w="2243160"/>
              </a:tblGrid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ошенных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куря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я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1%)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%)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зультаты анкет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600200"/>
          <a:ext cx="8229600" cy="4114800"/>
        </p:xfrm>
        <a:graphic>
          <a:graphicData uri="http://schemas.openxmlformats.org/drawingml/2006/table">
            <a:tbl>
              <a:tblPr/>
              <a:tblGrid>
                <a:gridCol w="2892600"/>
                <a:gridCol w="2619360"/>
                <a:gridCol w="2717640"/>
              </a:tblGrid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ящи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вочк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ьчик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%)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щее мнение о курен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ношение к курени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и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пустим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о возможно или  обычное де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ьчи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воч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mht72(1)"/>
          <p:cNvPicPr/>
          <p:nvPr/>
        </p:nvPicPr>
        <p:blipFill>
          <a:blip r:embed="rId1"/>
          <a:stretch/>
        </p:blipFill>
        <p:spPr>
          <a:xfrm>
            <a:off x="539640" y="333360"/>
            <a:ext cx="82090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ношение курящих к сигарет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68360" y="1844640"/>
          <a:ext cx="8234280" cy="4969080"/>
        </p:xfrm>
        <a:graphic>
          <a:graphicData uri="http://schemas.openxmlformats.org/drawingml/2006/table">
            <a:tbl>
              <a:tblPr/>
              <a:tblGrid>
                <a:gridCol w="3560760"/>
                <a:gridCol w="2336760"/>
                <a:gridCol w="2336760"/>
              </a:tblGrid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ношение к курени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о возможно или  обычное де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и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пустим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нош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% (девушкам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вуш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 (юношам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436840" y="404640"/>
            <a:ext cx="401472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Хочешь жить – бросай курит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600200"/>
          <a:ext cx="8229600" cy="51339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з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ящие, 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курящие,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Нерв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Понижение слу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Плохая памя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Плохое физ. состоя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Плохое умств. состоя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Нечистоплот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Плохие отмет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Медленно соображаю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07:58:20Z</dcterms:created>
  <dc:creator>Школа</dc:creator>
  <dc:description/>
  <dc:language>en-US</dc:language>
  <cp:lastModifiedBy>Admin</cp:lastModifiedBy>
  <dcterms:modified xsi:type="dcterms:W3CDTF">2011-05-01T17:31:01Z</dcterms:modified>
  <cp:revision>24</cp:revision>
  <dc:subject/>
  <dc:title>Курение:  ЗА и ПРОТИВ</dc:title>
</cp:coreProperties>
</file>